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3CE-66C9-4C40-BCFA-79F7F9CE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D53-C724-48C9-8F1D-55871C72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889-572E-415B-B95C-05E5D3C5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021-51F7-48F7-A1CC-6440DE07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679-16EC-49D3-A64E-F3EB7D6C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1EB-D735-4758-AE2E-AC9DBBE7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A6F-C5DB-49B0-B5A0-F56EC86E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51E-DAC5-4803-893A-442098F0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A7F2-75C4-4E17-99EF-1BE2423E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196-86C3-4C13-9258-79B97389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515-0459-40E6-9340-0B5439F5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971-3F2C-4079-8F42-935AE5DF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03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4EE2-AECD-46DD-A8C7-0B41DA86FCF7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br>
              <a:rPr sz="1000"/>
            </a:br>
            <a:r>
              <a:rPr b="0" lang="hr-HR" sz="2800" spc="-1" strike="noStrike">
                <a:solidFill>
                  <a:srgbClr val="e4b038"/>
                </a:solidFill>
                <a:latin typeface="Calisto MT"/>
              </a:rPr>
              <a:t>MINISTARSTVO NAU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2880" y="4857840"/>
            <a:ext cx="64008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e4b038"/>
                </a:solidFill>
                <a:latin typeface="Calibri"/>
              </a:rPr>
              <a:t>Prof. dr Sanja Vlaho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e4b038"/>
                </a:solidFill>
                <a:latin typeface="Calibri"/>
              </a:rPr>
              <a:t>ministarka nau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428840" y="3071880"/>
            <a:ext cx="642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4b038"/>
                </a:solidFill>
                <a:latin typeface="Calibri"/>
              </a:rPr>
              <a:t>Konferencija za med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4b038"/>
                </a:solidFill>
                <a:latin typeface="Calibri"/>
              </a:rPr>
              <a:t>Četvrtak, 20. februar 2014. g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NAU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Prof dr Sanja Vlahović, ministarka nauke                                                                20. februar 2014. 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14200" y="1928880"/>
          <a:ext cx="8675640" cy="4572000"/>
        </p:xfrm>
        <a:graphic>
          <a:graphicData uri="http://schemas.openxmlformats.org/drawingml/2006/table">
            <a:tbl>
              <a:tblPr/>
              <a:tblGrid>
                <a:gridCol w="955800"/>
                <a:gridCol w="4933800"/>
                <a:gridCol w="1354320"/>
                <a:gridCol w="143172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 (1-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uzete obaveze na nacionalnom niv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alizacija Konkursa za sufinansiranje nacionalnih naučnoistraživačkih projekata u periodu 2012-2015. - Druga godina istraživanja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češće Ministarstva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u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češće drugih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istarst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C “Tehnopolis” Nikšić - </a:t>
                      </a: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pitalni budž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Glavni projekat za „Tehnopolis“- 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istarstv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Osnivački ulog za “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hnopolis“ – 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istarstvo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85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2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8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8"/>
          <p:cNvSpPr/>
          <p:nvPr/>
        </p:nvSpPr>
        <p:spPr>
          <a:xfrm>
            <a:off x="539640" y="1413000"/>
            <a:ext cx="73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Calibri"/>
              </a:rPr>
              <a:t>FINANSIRANJE PREUZETIH  DOMAĆIH I MEĐUNARODNIH OBAVEZA I </a:t>
            </a:r>
            <a:br>
              <a:rPr sz="1400"/>
            </a:br>
            <a:r>
              <a:rPr b="1" lang="sr-Latn-CS" sz="1400" spc="-1" strike="noStrike">
                <a:solidFill>
                  <a:srgbClr val="ffffff"/>
                </a:solidFill>
                <a:latin typeface="Calibri"/>
              </a:rPr>
              <a:t>NASTAVAK  FINANSIRANJA REDOVNIH INSTRUMENATA U NAUC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5867280" y="141300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alibri"/>
              </a:rPr>
              <a:t>Iz Bud</a:t>
            </a:r>
            <a:r>
              <a:rPr b="1" lang="sr-Latn-CS" sz="1400" spc="-1" strike="noStrike">
                <a:solidFill>
                  <a:srgbClr val="ffffff"/>
                </a:solidFill>
                <a:latin typeface="Calibri"/>
              </a:rPr>
              <a:t>ž</a:t>
            </a:r>
            <a:r>
              <a:rPr b="1" lang="it-IT" sz="1400" spc="-1" strike="noStrike">
                <a:solidFill>
                  <a:srgbClr val="ffffff"/>
                </a:solidFill>
                <a:latin typeface="Calibri"/>
              </a:rPr>
              <a:t>eta Ministars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7164360" y="1413000"/>
            <a:ext cx="1295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alibri"/>
              </a:rPr>
              <a:t>Iz ostalih izv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NAU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Prof dr Sanja Vlahović, ministarka nauke                                                                20. februar 2014. 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56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357120" y="1643040"/>
            <a:ext cx="8786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85840" y="1500120"/>
          <a:ext cx="8389800" cy="5033880"/>
        </p:xfrm>
        <a:graphic>
          <a:graphicData uri="http://schemas.openxmlformats.org/drawingml/2006/table">
            <a:tbl>
              <a:tblPr/>
              <a:tblGrid>
                <a:gridCol w="846000"/>
                <a:gridCol w="5157720"/>
                <a:gridCol w="1308240"/>
                <a:gridCol w="1077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 (3-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uzete obaveze na međunarodnom niv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kvirni program EU “Horizont 2020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Finansijsko učešće CG za 2014. godin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49.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gram bilateralne naučno-tehnološke saradnje (bilateralni naučnoistraživački projekti sa: Kinom; Austrijom; Italijom; Slovenijom; Hrvatskom; i Bi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sijsko učešće Crne Gore u EUREKA progra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sijsko učešće Crne Gore u ICG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sijsko učešće Crne Gore u IA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21.4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71760" y="-142920"/>
            <a:ext cx="7286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5400"/>
            </a:br>
            <a:br>
              <a:rPr sz="1100"/>
            </a:br>
            <a:r>
              <a:rPr b="0" lang="hr-HR" sz="2000" spc="-1" strike="noStrike">
                <a:solidFill>
                  <a:srgbClr val="e4b038"/>
                </a:solidFill>
                <a:latin typeface="Calisto MT"/>
              </a:rPr>
              <a:t>MINISTARSTVO NAU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650088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 </a:t>
            </a:r>
            <a:r>
              <a:rPr b="0" i="1" lang="hr-HR" sz="1700" spc="-1" strike="noStrike">
                <a:solidFill>
                  <a:srgbClr val="e4b038"/>
                </a:solidFill>
                <a:latin typeface="Calibri"/>
              </a:rPr>
              <a:t>Prof dr Sanja Vlahović, ministarka nauke                                                                20. februar 2014. godi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  <p:sp>
        <p:nvSpPr>
          <p:cNvPr id="62" name="Straight Connector 6"/>
          <p:cNvSpPr/>
          <p:nvPr/>
        </p:nvSpPr>
        <p:spPr>
          <a:xfrm>
            <a:off x="0" y="6500880"/>
            <a:ext cx="9144000" cy="1440"/>
          </a:xfrm>
          <a:prstGeom prst="line">
            <a:avLst/>
          </a:prstGeom>
          <a:ln w="9360">
            <a:solidFill>
              <a:srgbClr val="e4b0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357120" y="1643040"/>
            <a:ext cx="8786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8000" y="1413000"/>
          <a:ext cx="9036000" cy="4686120"/>
        </p:xfrm>
        <a:graphic>
          <a:graphicData uri="http://schemas.openxmlformats.org/drawingml/2006/table">
            <a:tbl>
              <a:tblPr/>
              <a:tblGrid>
                <a:gridCol w="985680"/>
                <a:gridCol w="5421600"/>
                <a:gridCol w="1231560"/>
                <a:gridCol w="1397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(8-1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nirane aktivnosti na nacionalnom niv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alizacija projekta  </a:t>
                      </a:r>
                      <a:r>
                        <a:rPr b="0" lang="hr-H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“</a:t>
                      </a: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VO″-</a:t>
                      </a:r>
                      <a:r>
                        <a:rPr b="1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Sredstva Svjetske banke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Prva godina rada Centra uspješnost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Prva istraživačka godina za krupne istraživačk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nto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Studija o naučnoj dijaspor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9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32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.000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Realizacija Konkursa za sufinansiranje naučnoistraživačke djelatnosti u 2014. godini  - sufinansiranje doktorskih studija talenata i mladih istraživača; programi stimulisanja učešća u EU programima (EUREKA i COST),  sufinansiranje mobilnosti istraživača</a:t>
                      </a:r>
                      <a:r>
                        <a:rPr b="0" lang="pl-PL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; Organizovanje promotivnih događaja 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Dodjela godišnjih nagrada za naučna dostignuća u 2014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mocija nauke - </a:t>
                      </a:r>
                      <a:r>
                        <a:rPr b="0" lang="sr-Latn-C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alizacija manifestacije „Otvoreni dani nauke“ - Donacij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 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zer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.5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7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772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192480" y="6103800"/>
          <a:ext cx="5951520" cy="397080"/>
        </p:xfrm>
        <a:graphic>
          <a:graphicData uri="http://schemas.openxmlformats.org/drawingml/2006/table">
            <a:tbl>
              <a:tblPr/>
              <a:tblGrid>
                <a:gridCol w="3022560"/>
                <a:gridCol w="1548000"/>
                <a:gridCol w="1380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KUP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209.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557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hr-HR" sz="3600" spc="-1" strike="noStrike">
                <a:solidFill>
                  <a:srgbClr val="e4b038"/>
                </a:solidFill>
                <a:latin typeface="Calisto MT"/>
              </a:rPr>
              <a:t>VLADA CRNE GORE </a:t>
            </a:r>
            <a:br>
              <a:rPr sz="86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 MINISTARSTVO NAUKE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z sopstvenih izvora (kapitalnog i budžeta Ministarstva nauke), kao i ostalih izvora (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</a:rPr>
              <a:t>medjunarodni izvori i fondovi</a:t>
            </a: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), naučnoistraživačka djelatnost u Crnoj Gori u 2014. godini biće finansira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alibri"/>
              </a:rPr>
              <a:t>u ukupnom iznosu od</a:t>
            </a:r>
            <a:r>
              <a:rPr b="1" lang="hr-HR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ffff"/>
                </a:solidFill>
                <a:uFillTx/>
                <a:latin typeface="Calibri"/>
              </a:rPr>
              <a:t>4.766.525,00 </a:t>
            </a:r>
            <a:r>
              <a:rPr b="1" lang="sr-Latn-CS" sz="3600" spc="-1" strike="noStrike" u="sng">
                <a:solidFill>
                  <a:srgbClr val="ffffff"/>
                </a:solidFill>
                <a:uFillTx/>
                <a:latin typeface="Calibri"/>
              </a:rPr>
              <a:t>€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što predstavlja uvećan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u odnosu na 2013. godinu od 222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224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01:46:13Z</dcterms:created>
  <dc:creator>Srdjan Kusovac</dc:creator>
  <dc:description/>
  <dc:language>en-US</dc:language>
  <cp:lastModifiedBy> </cp:lastModifiedBy>
  <dcterms:modified xsi:type="dcterms:W3CDTF">2014-02-20T12:09:11Z</dcterms:modified>
  <cp:revision>87</cp:revision>
  <dc:subject/>
  <dc:title>VLADA CRNE GORE  Savjet za privatizaciju i kapitalne projekte</dc:title>
</cp:coreProperties>
</file>